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E25D-21AF-418F-9F7B-BADE2CA4F6F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437D-B157-4534-830D-082EFC84B9E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FB25-20BF-4496-BD85-1C63D6A9446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7FBE-FAC2-4E13-84C0-7FE457D4780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9E0D-290A-4CFE-9FE7-61A1A8D1BFE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7B4C-DDAF-4E47-930C-76203504A77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40A2-46B9-4F14-8880-76EDC9A2599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FD2E-B7E2-4C60-91D7-CD38FFDF2CD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0642-E452-4DA7-BB4E-EE9D8EC4CB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861E-8257-4D31-BFCF-9F2FC046F57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F0F7-8A04-45D1-8393-741788209B9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46DF-9AA3-4AC2-967F-85EB3943B5A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FD10-E91B-412F-94EA-052B3450718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456E-20FA-4337-A4F9-DF86FF1F8A5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A0C1-F543-4480-AADB-1A92573AE54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AEFC-D017-4F72-BB26-A48FF0ECEA0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3392-EAE5-47F8-B34F-C5B7FB2A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704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BA7-43B8-475C-96A1-17FB3B23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8C8A-FB87-4C5A-B32B-4D124F5D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972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972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704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7704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7704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1B98-42F7-4B91-A66B-F724B148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1958-4C39-444E-A772-4F7EB36A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3E62-497B-426C-A68A-A170BD9A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4AF0-B597-4A1F-A0D3-83D02552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3C65-6C7B-46F8-ADDC-21F66FE5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3789-A867-41C7-BA5B-E4D83A54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59AB-98B5-45C5-985C-EABEE986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7702-50A6-4B32-A57D-3FA02A12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E77D-842C-43CC-BBE6-11D179BB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31FF-BD75-4EBA-96FA-DD48360B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CBBA-2E22-42A7-8FCE-C3F448C5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7704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F149-F7D7-4F51-943A-3472B7A3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F8B0-8127-40EE-94A1-666E3511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99972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99972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7704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7704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7704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2594-F038-4D77-9E50-394E1F97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FBE8-47BC-4B4F-A9AB-9747FBA5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CED2-4754-49F1-8FF1-9D430947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113-2B6A-42B1-A99B-44FEF8C1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CCA2-B55A-4CBB-88A3-3C5F365B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AFA-DB4B-4D11-901F-F2E0924C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9CAD-EEAF-4B92-8418-E9CE6FBF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4533-BEDA-4381-A176-F2944C00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EF9E-4648-420F-A005-4D6DF6EB75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6"/>
          <p:cNvSpPr/>
          <p:nvPr/>
        </p:nvSpPr>
        <p:spPr>
          <a:xfrm>
            <a:off x="1441440" y="115920"/>
            <a:ext cx="619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ャートを構成するすべての図形は、グループ化されています。</a:t>
            </a:r>
            <a:br>
              <a:rPr sz="1000"/>
            </a:b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チャートの種類によっては、複数の段階に分けてグループ化されているものもあります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クリックで全体が選択できるので、選択してコピーし、チャートを使用したいスライドへ貼り付け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ャート全体の大きさは、任意のハンドルをドラッグして適宜調節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ャートを分解して編集するには、右ボタンクリックして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グループ化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グループ化の解除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選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複数の段階に分けてグループ化されているチャートは、複数回グループ化の解除を行う必要があ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11F9-85AE-40B3-8EDC-55F84AF805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グループ化 8"/>
          <p:cNvGrpSpPr/>
          <p:nvPr/>
        </p:nvGrpSpPr>
        <p:grpSpPr>
          <a:xfrm>
            <a:off x="785880" y="1500120"/>
            <a:ext cx="7286400" cy="4786560"/>
            <a:chOff x="785880" y="1500120"/>
            <a:chExt cx="7286400" cy="4786560"/>
          </a:xfrm>
        </p:grpSpPr>
        <p:sp>
          <p:nvSpPr>
            <p:cNvPr id="91" name="ホームベース 11"/>
            <p:cNvSpPr/>
            <p:nvPr/>
          </p:nvSpPr>
          <p:spPr>
            <a:xfrm>
              <a:off x="785880" y="4786560"/>
              <a:ext cx="4000320" cy="150012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1500120"/>
                <a:gd name="textAreaBottom" fmla="*/ 1500480 h 150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0" y="0"/>
                  </a:lnTo>
                  <a:lnTo>
                    <a:pt x="21600" y="10800"/>
                  </a:lnTo>
                  <a:lnTo>
                    <a:pt x="195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6bcbc"/>
                </a:gs>
                <a:gs pos="100000">
                  <a:srgbClr val="f8ecec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曲折矢印 12"/>
            <p:cNvGrpSpPr/>
            <p:nvPr/>
          </p:nvGrpSpPr>
          <p:grpSpPr>
            <a:xfrm>
              <a:off x="1304640" y="3541680"/>
              <a:ext cx="1109160" cy="1176480"/>
              <a:chOff x="1304640" y="3541680"/>
              <a:chExt cx="1109160" cy="1176480"/>
            </a:xfrm>
          </p:grpSpPr>
          <p:pic>
            <p:nvPicPr>
              <p:cNvPr id="93" name="曲折矢印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1304640" y="3541680"/>
                <a:ext cx="1109160" cy="117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1357200" y="3571560"/>
                <a:ext cx="1000080" cy="10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曲折矢印 13"/>
            <p:cNvGrpSpPr/>
            <p:nvPr/>
          </p:nvGrpSpPr>
          <p:grpSpPr>
            <a:xfrm>
              <a:off x="2944440" y="1895760"/>
              <a:ext cx="1109160" cy="1182600"/>
              <a:chOff x="2944440" y="1895760"/>
              <a:chExt cx="1109160" cy="1182600"/>
            </a:xfrm>
          </p:grpSpPr>
          <p:pic>
            <p:nvPicPr>
              <p:cNvPr id="96" name="曲折矢印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944440" y="1895760"/>
                <a:ext cx="1109160" cy="11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3000240" y="1928520"/>
                <a:ext cx="1000080" cy="10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ホームベース 14"/>
            <p:cNvSpPr/>
            <p:nvPr/>
          </p:nvSpPr>
          <p:spPr>
            <a:xfrm>
              <a:off x="2428920" y="3143160"/>
              <a:ext cx="4000320" cy="150012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1500120"/>
                <a:gd name="textAreaBottom" fmla="*/ 1500480 h 150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0" y="0"/>
                  </a:lnTo>
                  <a:lnTo>
                    <a:pt x="21600" y="10800"/>
                  </a:lnTo>
                  <a:lnTo>
                    <a:pt x="195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6bcbc"/>
                </a:gs>
                <a:gs pos="100000">
                  <a:srgbClr val="f8ecec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ホームベース 17"/>
            <p:cNvSpPr/>
            <p:nvPr/>
          </p:nvSpPr>
          <p:spPr>
            <a:xfrm>
              <a:off x="4071960" y="1500120"/>
              <a:ext cx="4000320" cy="150012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1500120"/>
                <a:gd name="textAreaBottom" fmla="*/ 1500480 h 150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0" y="0"/>
                  </a:lnTo>
                  <a:lnTo>
                    <a:pt x="21600" y="10800"/>
                  </a:lnTo>
                  <a:lnTo>
                    <a:pt x="195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6bcbc"/>
                </a:gs>
                <a:gs pos="100000">
                  <a:srgbClr val="f8ecec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グループ化 11"/>
          <p:cNvGrpSpPr/>
          <p:nvPr/>
        </p:nvGrpSpPr>
        <p:grpSpPr>
          <a:xfrm>
            <a:off x="71280" y="820440"/>
            <a:ext cx="8215560" cy="5836680"/>
            <a:chOff x="71280" y="820440"/>
            <a:chExt cx="8215560" cy="5836680"/>
          </a:xfrm>
        </p:grpSpPr>
        <p:sp>
          <p:nvSpPr>
            <p:cNvPr id="213" name="右矢印 12"/>
            <p:cNvSpPr/>
            <p:nvPr/>
          </p:nvSpPr>
          <p:spPr>
            <a:xfrm rot="17863200">
              <a:off x="-400320" y="2631240"/>
              <a:ext cx="5429520" cy="2214720"/>
            </a:xfrm>
            <a:prstGeom prst="rightArrow">
              <a:avLst>
                <a:gd name="adj1" fmla="val 50000"/>
                <a:gd name="adj2" fmla="val 49996"/>
              </a:avLst>
            </a:prstGeom>
            <a:gradFill rotWithShape="0">
              <a:gsLst>
                <a:gs pos="0">
                  <a:srgbClr val="efc7ff"/>
                </a:gs>
                <a:gs pos="100000">
                  <a:srgbClr val="faefff"/>
                </a:gs>
              </a:gsLst>
              <a:lin ang="19938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グループ化 13"/>
            <p:cNvGrpSpPr/>
            <p:nvPr/>
          </p:nvGrpSpPr>
          <p:grpSpPr>
            <a:xfrm>
              <a:off x="1714320" y="1534680"/>
              <a:ext cx="6572520" cy="1071360"/>
              <a:chOff x="1714320" y="1534680"/>
              <a:chExt cx="6572520" cy="1071360"/>
            </a:xfrm>
          </p:grpSpPr>
          <p:sp>
            <p:nvSpPr>
              <p:cNvPr id="215" name="角丸四角形 26"/>
              <p:cNvSpPr/>
              <p:nvPr/>
            </p:nvSpPr>
            <p:spPr>
              <a:xfrm>
                <a:off x="1714320" y="1534680"/>
                <a:ext cx="2071800" cy="1071360"/>
              </a:xfrm>
              <a:prstGeom prst="roundRect">
                <a:avLst>
                  <a:gd name="adj" fmla="val 16667"/>
                </a:avLst>
              </a:prstGeom>
              <a:solidFill>
                <a:srgbClr val="78568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ffffff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角丸四角形 27"/>
              <p:cNvSpPr/>
              <p:nvPr/>
            </p:nvSpPr>
            <p:spPr>
              <a:xfrm>
                <a:off x="4357440" y="1534680"/>
                <a:ext cx="3929400" cy="1071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abce6"/>
                  </a:gs>
                  <a:gs pos="100000">
                    <a:srgbClr val="f5ecf8"/>
                  </a:gs>
                </a:gsLst>
                <a:lin ang="16200000"/>
              </a:gradFill>
              <a:ln w="9360">
                <a:solidFill>
                  <a:srgbClr val="969696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直線コネクタ 28"/>
              <p:cNvSpPr/>
              <p:nvPr/>
            </p:nvSpPr>
            <p:spPr>
              <a:xfrm>
                <a:off x="3786120" y="2070360"/>
                <a:ext cx="571320" cy="0"/>
              </a:xfrm>
              <a:prstGeom prst="line">
                <a:avLst/>
              </a:prstGeom>
              <a:ln w="9360">
                <a:solidFill>
                  <a:srgbClr val="4c3755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グループ化 14"/>
            <p:cNvGrpSpPr/>
            <p:nvPr/>
          </p:nvGrpSpPr>
          <p:grpSpPr>
            <a:xfrm>
              <a:off x="1428480" y="2749320"/>
              <a:ext cx="6858360" cy="1071360"/>
              <a:chOff x="1428480" y="2749320"/>
              <a:chExt cx="6858360" cy="1071360"/>
            </a:xfrm>
          </p:grpSpPr>
          <p:sp>
            <p:nvSpPr>
              <p:cNvPr id="219" name="角丸四角形 23"/>
              <p:cNvSpPr/>
              <p:nvPr/>
            </p:nvSpPr>
            <p:spPr>
              <a:xfrm>
                <a:off x="1428480" y="2749320"/>
                <a:ext cx="2071800" cy="1071360"/>
              </a:xfrm>
              <a:prstGeom prst="roundRect">
                <a:avLst>
                  <a:gd name="adj" fmla="val 16667"/>
                </a:avLst>
              </a:prstGeom>
              <a:solidFill>
                <a:srgbClr val="78568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ffffff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角丸四角形 24"/>
              <p:cNvSpPr/>
              <p:nvPr/>
            </p:nvSpPr>
            <p:spPr>
              <a:xfrm>
                <a:off x="4357440" y="2749320"/>
                <a:ext cx="3929400" cy="1071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abce6"/>
                  </a:gs>
                  <a:gs pos="100000">
                    <a:srgbClr val="f5ecf8"/>
                  </a:gs>
                </a:gsLst>
                <a:lin ang="16200000"/>
              </a:gradFill>
              <a:ln w="9360">
                <a:solidFill>
                  <a:srgbClr val="969696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直線コネクタ 25"/>
              <p:cNvSpPr/>
              <p:nvPr/>
            </p:nvSpPr>
            <p:spPr>
              <a:xfrm>
                <a:off x="3500280" y="3285000"/>
                <a:ext cx="857160" cy="0"/>
              </a:xfrm>
              <a:prstGeom prst="line">
                <a:avLst/>
              </a:prstGeom>
              <a:ln w="9360">
                <a:solidFill>
                  <a:srgbClr val="4c3755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グループ化 15"/>
            <p:cNvGrpSpPr/>
            <p:nvPr/>
          </p:nvGrpSpPr>
          <p:grpSpPr>
            <a:xfrm>
              <a:off x="1142640" y="3963960"/>
              <a:ext cx="7144200" cy="1071360"/>
              <a:chOff x="1142640" y="3963960"/>
              <a:chExt cx="7144200" cy="1071360"/>
            </a:xfrm>
          </p:grpSpPr>
          <p:sp>
            <p:nvSpPr>
              <p:cNvPr id="223" name="角丸四角形 20"/>
              <p:cNvSpPr/>
              <p:nvPr/>
            </p:nvSpPr>
            <p:spPr>
              <a:xfrm>
                <a:off x="1142640" y="3963960"/>
                <a:ext cx="2071800" cy="1071360"/>
              </a:xfrm>
              <a:prstGeom prst="roundRect">
                <a:avLst>
                  <a:gd name="adj" fmla="val 16667"/>
                </a:avLst>
              </a:prstGeom>
              <a:solidFill>
                <a:srgbClr val="78568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ffffff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角丸四角形 21"/>
              <p:cNvSpPr/>
              <p:nvPr/>
            </p:nvSpPr>
            <p:spPr>
              <a:xfrm>
                <a:off x="4357440" y="3963960"/>
                <a:ext cx="3929400" cy="1071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abce6"/>
                  </a:gs>
                  <a:gs pos="100000">
                    <a:srgbClr val="f5ecf8"/>
                  </a:gs>
                </a:gsLst>
                <a:lin ang="16200000"/>
              </a:gradFill>
              <a:ln w="9360">
                <a:solidFill>
                  <a:srgbClr val="969696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直線コネクタ 22"/>
              <p:cNvSpPr/>
              <p:nvPr/>
            </p:nvSpPr>
            <p:spPr>
              <a:xfrm>
                <a:off x="3214440" y="4499640"/>
                <a:ext cx="1143000" cy="0"/>
              </a:xfrm>
              <a:prstGeom prst="line">
                <a:avLst/>
              </a:prstGeom>
              <a:ln w="9360">
                <a:solidFill>
                  <a:srgbClr val="4c3755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グループ化 16"/>
            <p:cNvGrpSpPr/>
            <p:nvPr/>
          </p:nvGrpSpPr>
          <p:grpSpPr>
            <a:xfrm>
              <a:off x="857160" y="5178240"/>
              <a:ext cx="7429680" cy="1071360"/>
              <a:chOff x="857160" y="5178240"/>
              <a:chExt cx="7429680" cy="1071360"/>
            </a:xfrm>
          </p:grpSpPr>
          <p:sp>
            <p:nvSpPr>
              <p:cNvPr id="227" name="角丸四角形 17"/>
              <p:cNvSpPr/>
              <p:nvPr/>
            </p:nvSpPr>
            <p:spPr>
              <a:xfrm>
                <a:off x="857160" y="5178240"/>
                <a:ext cx="2071800" cy="1071360"/>
              </a:xfrm>
              <a:prstGeom prst="roundRect">
                <a:avLst>
                  <a:gd name="adj" fmla="val 16667"/>
                </a:avLst>
              </a:prstGeom>
              <a:solidFill>
                <a:srgbClr val="78568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ffffff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角丸四角形 18"/>
              <p:cNvSpPr/>
              <p:nvPr/>
            </p:nvSpPr>
            <p:spPr>
              <a:xfrm>
                <a:off x="4357800" y="5178240"/>
                <a:ext cx="3929040" cy="1071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abce6"/>
                  </a:gs>
                  <a:gs pos="100000">
                    <a:srgbClr val="f5ecf8"/>
                  </a:gs>
                </a:gsLst>
                <a:lin ang="16200000"/>
              </a:gradFill>
              <a:ln w="9360">
                <a:solidFill>
                  <a:srgbClr val="969696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直線コネクタ 19"/>
              <p:cNvSpPr/>
              <p:nvPr/>
            </p:nvSpPr>
            <p:spPr>
              <a:xfrm>
                <a:off x="2928960" y="5713920"/>
                <a:ext cx="1428840" cy="0"/>
              </a:xfrm>
              <a:prstGeom prst="line">
                <a:avLst/>
              </a:prstGeom>
              <a:ln w="9360">
                <a:solidFill>
                  <a:srgbClr val="4c3755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グループ化 29"/>
          <p:cNvGrpSpPr/>
          <p:nvPr/>
        </p:nvGrpSpPr>
        <p:grpSpPr>
          <a:xfrm>
            <a:off x="1106640" y="1311120"/>
            <a:ext cx="6930720" cy="5286600"/>
            <a:chOff x="1106640" y="1311120"/>
            <a:chExt cx="6930720" cy="5286600"/>
          </a:xfrm>
        </p:grpSpPr>
        <p:sp>
          <p:nvSpPr>
            <p:cNvPr id="231" name="上矢印 30"/>
            <p:cNvSpPr/>
            <p:nvPr/>
          </p:nvSpPr>
          <p:spPr>
            <a:xfrm>
              <a:off x="1106640" y="1311120"/>
              <a:ext cx="2643480" cy="5286600"/>
            </a:xfrm>
            <a:prstGeom prst="upArrow">
              <a:avLst>
                <a:gd name="adj1" fmla="val 50000"/>
                <a:gd name="adj2" fmla="val 29341"/>
              </a:avLst>
            </a:prstGeom>
            <a:gradFill rotWithShape="0">
              <a:gsLst>
                <a:gs pos="0">
                  <a:srgbClr val="7d4d4d"/>
                </a:gs>
                <a:gs pos="100000">
                  <a:srgbClr val="a76767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vert="eaVer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ＭＳ Ｐゴシック"/>
                </a:rPr>
                <a:t>ああ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角丸四角形 31"/>
            <p:cNvSpPr/>
            <p:nvPr/>
          </p:nvSpPr>
          <p:spPr>
            <a:xfrm>
              <a:off x="2392560" y="2311200"/>
              <a:ext cx="5644800" cy="92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6bcbc"/>
                </a:gs>
                <a:gs pos="100000">
                  <a:srgbClr val="f8ecec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角丸四角形 32"/>
            <p:cNvSpPr/>
            <p:nvPr/>
          </p:nvSpPr>
          <p:spPr>
            <a:xfrm>
              <a:off x="2392560" y="3382920"/>
              <a:ext cx="5644800" cy="92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6bcbc"/>
                </a:gs>
                <a:gs pos="100000">
                  <a:srgbClr val="f8ecec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角丸四角形 33"/>
            <p:cNvSpPr/>
            <p:nvPr/>
          </p:nvSpPr>
          <p:spPr>
            <a:xfrm>
              <a:off x="2392560" y="4454640"/>
              <a:ext cx="5644800" cy="92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6bcbc"/>
                </a:gs>
                <a:gs pos="100000">
                  <a:srgbClr val="f8ecec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角丸四角形 34"/>
            <p:cNvSpPr/>
            <p:nvPr/>
          </p:nvSpPr>
          <p:spPr>
            <a:xfrm>
              <a:off x="2392560" y="5526360"/>
              <a:ext cx="5644800" cy="92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6bcbc"/>
                </a:gs>
                <a:gs pos="100000">
                  <a:srgbClr val="f8ecec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グループ化 29"/>
          <p:cNvGrpSpPr/>
          <p:nvPr/>
        </p:nvGrpSpPr>
        <p:grpSpPr>
          <a:xfrm>
            <a:off x="1106640" y="1311120"/>
            <a:ext cx="6930720" cy="5286600"/>
            <a:chOff x="1106640" y="1311120"/>
            <a:chExt cx="6930720" cy="5286600"/>
          </a:xfrm>
        </p:grpSpPr>
        <p:sp>
          <p:nvSpPr>
            <p:cNvPr id="237" name="上矢印 30"/>
            <p:cNvSpPr/>
            <p:nvPr/>
          </p:nvSpPr>
          <p:spPr>
            <a:xfrm>
              <a:off x="1106640" y="1311120"/>
              <a:ext cx="2643480" cy="5286600"/>
            </a:xfrm>
            <a:prstGeom prst="upArrow">
              <a:avLst>
                <a:gd name="adj1" fmla="val 50000"/>
                <a:gd name="adj2" fmla="val 29341"/>
              </a:avLst>
            </a:prstGeom>
            <a:gradFill rotWithShape="0">
              <a:gsLst>
                <a:gs pos="0">
                  <a:srgbClr val="7b7d4d"/>
                </a:gs>
                <a:gs pos="100000">
                  <a:srgbClr val="a4a767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vert="eaVer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ＭＳ Ｐゴシック"/>
                </a:rPr>
                <a:t>ああ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角丸四角形 31"/>
            <p:cNvSpPr/>
            <p:nvPr/>
          </p:nvSpPr>
          <p:spPr>
            <a:xfrm>
              <a:off x="2392560" y="2311200"/>
              <a:ext cx="5644800" cy="92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e6bc"/>
                </a:gs>
                <a:gs pos="100000">
                  <a:srgbClr val="f7f8ec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角丸四角形 32"/>
            <p:cNvSpPr/>
            <p:nvPr/>
          </p:nvSpPr>
          <p:spPr>
            <a:xfrm>
              <a:off x="2392560" y="3382920"/>
              <a:ext cx="5644800" cy="92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e6bc"/>
                </a:gs>
                <a:gs pos="100000">
                  <a:srgbClr val="f7f8ec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角丸四角形 33"/>
            <p:cNvSpPr/>
            <p:nvPr/>
          </p:nvSpPr>
          <p:spPr>
            <a:xfrm>
              <a:off x="2392560" y="4454640"/>
              <a:ext cx="5644800" cy="92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e6bc"/>
                </a:gs>
                <a:gs pos="100000">
                  <a:srgbClr val="f7f8ec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角丸四角形 34"/>
            <p:cNvSpPr/>
            <p:nvPr/>
          </p:nvSpPr>
          <p:spPr>
            <a:xfrm>
              <a:off x="2392560" y="5526360"/>
              <a:ext cx="5644800" cy="92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e6bc"/>
                </a:gs>
                <a:gs pos="100000">
                  <a:srgbClr val="f7f8ec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グループ化 29"/>
          <p:cNvGrpSpPr/>
          <p:nvPr/>
        </p:nvGrpSpPr>
        <p:grpSpPr>
          <a:xfrm>
            <a:off x="1106640" y="1311120"/>
            <a:ext cx="6930720" cy="5286600"/>
            <a:chOff x="1106640" y="1311120"/>
            <a:chExt cx="6930720" cy="5286600"/>
          </a:xfrm>
        </p:grpSpPr>
        <p:sp>
          <p:nvSpPr>
            <p:cNvPr id="243" name="上矢印 30"/>
            <p:cNvSpPr/>
            <p:nvPr/>
          </p:nvSpPr>
          <p:spPr>
            <a:xfrm>
              <a:off x="1106640" y="1311120"/>
              <a:ext cx="2643480" cy="5286600"/>
            </a:xfrm>
            <a:prstGeom prst="upArrow">
              <a:avLst>
                <a:gd name="adj1" fmla="val 50000"/>
                <a:gd name="adj2" fmla="val 29341"/>
              </a:avLst>
            </a:prstGeom>
            <a:gradFill rotWithShape="0">
              <a:gsLst>
                <a:gs pos="0">
                  <a:srgbClr val="537d4d"/>
                </a:gs>
                <a:gs pos="100000">
                  <a:srgbClr val="6fa767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vert="eaVer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ＭＳ Ｐゴシック"/>
                </a:rPr>
                <a:t>ああ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角丸四角形 31"/>
            <p:cNvSpPr/>
            <p:nvPr/>
          </p:nvSpPr>
          <p:spPr>
            <a:xfrm>
              <a:off x="2392560" y="2311200"/>
              <a:ext cx="5644800" cy="92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1e6bc"/>
                </a:gs>
                <a:gs pos="100000">
                  <a:srgbClr val="edf8ec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角丸四角形 32"/>
            <p:cNvSpPr/>
            <p:nvPr/>
          </p:nvSpPr>
          <p:spPr>
            <a:xfrm>
              <a:off x="2392560" y="3382920"/>
              <a:ext cx="5644800" cy="92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1e6bc"/>
                </a:gs>
                <a:gs pos="100000">
                  <a:srgbClr val="edf8ec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角丸四角形 33"/>
            <p:cNvSpPr/>
            <p:nvPr/>
          </p:nvSpPr>
          <p:spPr>
            <a:xfrm>
              <a:off x="2392560" y="4454640"/>
              <a:ext cx="5644800" cy="92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1e6bc"/>
                </a:gs>
                <a:gs pos="100000">
                  <a:srgbClr val="edf8ec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角丸四角形 34"/>
            <p:cNvSpPr/>
            <p:nvPr/>
          </p:nvSpPr>
          <p:spPr>
            <a:xfrm>
              <a:off x="2392560" y="5526360"/>
              <a:ext cx="5644800" cy="92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1e6bc"/>
                </a:gs>
                <a:gs pos="100000">
                  <a:srgbClr val="edf8ec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グループ化 29"/>
          <p:cNvGrpSpPr/>
          <p:nvPr/>
        </p:nvGrpSpPr>
        <p:grpSpPr>
          <a:xfrm>
            <a:off x="1106640" y="1311120"/>
            <a:ext cx="6930720" cy="5286600"/>
            <a:chOff x="1106640" y="1311120"/>
            <a:chExt cx="6930720" cy="5286600"/>
          </a:xfrm>
        </p:grpSpPr>
        <p:sp>
          <p:nvSpPr>
            <p:cNvPr id="249" name="上矢印 30"/>
            <p:cNvSpPr/>
            <p:nvPr/>
          </p:nvSpPr>
          <p:spPr>
            <a:xfrm>
              <a:off x="1106640" y="1311120"/>
              <a:ext cx="2643480" cy="5286600"/>
            </a:xfrm>
            <a:prstGeom prst="upArrow">
              <a:avLst>
                <a:gd name="adj1" fmla="val 50000"/>
                <a:gd name="adj2" fmla="val 29341"/>
              </a:avLst>
            </a:prstGeom>
            <a:gradFill rotWithShape="0">
              <a:gsLst>
                <a:gs pos="0">
                  <a:srgbClr val="4d647d"/>
                </a:gs>
                <a:gs pos="100000">
                  <a:srgbClr val="6785a7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vert="eaVer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ＭＳ Ｐゴシック"/>
                </a:rPr>
                <a:t>ああ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角丸四角形 31"/>
            <p:cNvSpPr/>
            <p:nvPr/>
          </p:nvSpPr>
          <p:spPr>
            <a:xfrm>
              <a:off x="2392560" y="2311200"/>
              <a:ext cx="5644800" cy="92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cd0e6"/>
                </a:gs>
                <a:gs pos="100000">
                  <a:srgbClr val="ecf2f8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角丸四角形 32"/>
            <p:cNvSpPr/>
            <p:nvPr/>
          </p:nvSpPr>
          <p:spPr>
            <a:xfrm>
              <a:off x="2392560" y="3382920"/>
              <a:ext cx="5644800" cy="92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cd0e6"/>
                </a:gs>
                <a:gs pos="100000">
                  <a:srgbClr val="ecf2f8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角丸四角形 33"/>
            <p:cNvSpPr/>
            <p:nvPr/>
          </p:nvSpPr>
          <p:spPr>
            <a:xfrm>
              <a:off x="2392560" y="4454640"/>
              <a:ext cx="5644800" cy="92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cd0e6"/>
                </a:gs>
                <a:gs pos="100000">
                  <a:srgbClr val="ecf2f8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角丸四角形 34"/>
            <p:cNvSpPr/>
            <p:nvPr/>
          </p:nvSpPr>
          <p:spPr>
            <a:xfrm>
              <a:off x="2392560" y="5526360"/>
              <a:ext cx="5644800" cy="92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cd0e6"/>
                </a:gs>
                <a:gs pos="100000">
                  <a:srgbClr val="ecf2f8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グループ化 29"/>
          <p:cNvGrpSpPr/>
          <p:nvPr/>
        </p:nvGrpSpPr>
        <p:grpSpPr>
          <a:xfrm>
            <a:off x="1106640" y="1311120"/>
            <a:ext cx="6930720" cy="5286600"/>
            <a:chOff x="1106640" y="1311120"/>
            <a:chExt cx="6930720" cy="5286600"/>
          </a:xfrm>
        </p:grpSpPr>
        <p:sp>
          <p:nvSpPr>
            <p:cNvPr id="255" name="上矢印 30"/>
            <p:cNvSpPr/>
            <p:nvPr/>
          </p:nvSpPr>
          <p:spPr>
            <a:xfrm>
              <a:off x="1106640" y="1311120"/>
              <a:ext cx="2643480" cy="5286600"/>
            </a:xfrm>
            <a:prstGeom prst="upArrow">
              <a:avLst>
                <a:gd name="adj1" fmla="val 50000"/>
                <a:gd name="adj2" fmla="val 29341"/>
              </a:avLst>
            </a:prstGeom>
            <a:gradFill rotWithShape="0">
              <a:gsLst>
                <a:gs pos="0">
                  <a:srgbClr val="6f4d7d"/>
                </a:gs>
                <a:gs pos="100000">
                  <a:srgbClr val="9567a7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vert="eaVer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ＭＳ Ｐゴシック"/>
                </a:rPr>
                <a:t>ああ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角丸四角形 31"/>
            <p:cNvSpPr/>
            <p:nvPr/>
          </p:nvSpPr>
          <p:spPr>
            <a:xfrm>
              <a:off x="2392560" y="2311200"/>
              <a:ext cx="5644800" cy="92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bce6"/>
                </a:gs>
                <a:gs pos="100000">
                  <a:srgbClr val="f5ecf8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角丸四角形 32"/>
            <p:cNvSpPr/>
            <p:nvPr/>
          </p:nvSpPr>
          <p:spPr>
            <a:xfrm>
              <a:off x="2392560" y="3382920"/>
              <a:ext cx="5644800" cy="92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bce6"/>
                </a:gs>
                <a:gs pos="100000">
                  <a:srgbClr val="f5ecf8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角丸四角形 33"/>
            <p:cNvSpPr/>
            <p:nvPr/>
          </p:nvSpPr>
          <p:spPr>
            <a:xfrm>
              <a:off x="2392560" y="4454640"/>
              <a:ext cx="5644800" cy="92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bce6"/>
                </a:gs>
                <a:gs pos="100000">
                  <a:srgbClr val="f5ecf8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角丸四角形 34"/>
            <p:cNvSpPr/>
            <p:nvPr/>
          </p:nvSpPr>
          <p:spPr>
            <a:xfrm>
              <a:off x="2392560" y="5526360"/>
              <a:ext cx="5644800" cy="92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bce6"/>
                </a:gs>
                <a:gs pos="100000">
                  <a:srgbClr val="f5ecf8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グループ化 8"/>
          <p:cNvGrpSpPr/>
          <p:nvPr/>
        </p:nvGrpSpPr>
        <p:grpSpPr>
          <a:xfrm>
            <a:off x="814320" y="1522440"/>
            <a:ext cx="7286760" cy="4786200"/>
            <a:chOff x="814320" y="1522440"/>
            <a:chExt cx="7286760" cy="4786200"/>
          </a:xfrm>
        </p:grpSpPr>
        <p:sp>
          <p:nvSpPr>
            <p:cNvPr id="101" name="ホームベース 11"/>
            <p:cNvSpPr/>
            <p:nvPr/>
          </p:nvSpPr>
          <p:spPr>
            <a:xfrm>
              <a:off x="814320" y="4808520"/>
              <a:ext cx="4000680" cy="1500120"/>
            </a:xfrm>
            <a:custGeom>
              <a:avLst/>
              <a:gdLst>
                <a:gd name="textAreaLeft" fmla="*/ 0 w 4000680"/>
                <a:gd name="textAreaRight" fmla="*/ 4001040 w 4000680"/>
                <a:gd name="textAreaTop" fmla="*/ 0 h 1500120"/>
                <a:gd name="textAreaBottom" fmla="*/ 1500480 h 150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0" y="0"/>
                  </a:lnTo>
                  <a:lnTo>
                    <a:pt x="21600" y="10800"/>
                  </a:lnTo>
                  <a:lnTo>
                    <a:pt x="195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4e6bc"/>
                </a:gs>
                <a:gs pos="100000">
                  <a:srgbClr val="f7f8ec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曲折矢印 12"/>
            <p:cNvGrpSpPr/>
            <p:nvPr/>
          </p:nvGrpSpPr>
          <p:grpSpPr>
            <a:xfrm>
              <a:off x="1329480" y="3565440"/>
              <a:ext cx="1109520" cy="1176480"/>
              <a:chOff x="1329480" y="3565440"/>
              <a:chExt cx="1109520" cy="1176480"/>
            </a:xfrm>
          </p:grpSpPr>
          <p:pic>
            <p:nvPicPr>
              <p:cNvPr id="103" name="曲折矢印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1329480" y="3565440"/>
                <a:ext cx="1109520" cy="117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1385640" y="3593880"/>
                <a:ext cx="1000440" cy="10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曲折矢印 13"/>
            <p:cNvGrpSpPr/>
            <p:nvPr/>
          </p:nvGrpSpPr>
          <p:grpSpPr>
            <a:xfrm>
              <a:off x="2975400" y="1919520"/>
              <a:ext cx="1109520" cy="1176480"/>
              <a:chOff x="2975400" y="1919520"/>
              <a:chExt cx="1109520" cy="1176480"/>
            </a:xfrm>
          </p:grpSpPr>
          <p:pic>
            <p:nvPicPr>
              <p:cNvPr id="106" name="曲折矢印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975400" y="1919520"/>
                <a:ext cx="1109520" cy="117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3028680" y="1950840"/>
                <a:ext cx="1000440" cy="10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ホームベース 14"/>
            <p:cNvSpPr/>
            <p:nvPr/>
          </p:nvSpPr>
          <p:spPr>
            <a:xfrm>
              <a:off x="2457360" y="3165480"/>
              <a:ext cx="4000680" cy="1500120"/>
            </a:xfrm>
            <a:custGeom>
              <a:avLst/>
              <a:gdLst>
                <a:gd name="textAreaLeft" fmla="*/ 0 w 4000680"/>
                <a:gd name="textAreaRight" fmla="*/ 4001040 w 4000680"/>
                <a:gd name="textAreaTop" fmla="*/ 0 h 1500120"/>
                <a:gd name="textAreaBottom" fmla="*/ 1500480 h 150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0" y="0"/>
                  </a:lnTo>
                  <a:lnTo>
                    <a:pt x="21600" y="10800"/>
                  </a:lnTo>
                  <a:lnTo>
                    <a:pt x="195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4e6bc"/>
                </a:gs>
                <a:gs pos="100000">
                  <a:srgbClr val="f7f8ec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ホームベース 17"/>
            <p:cNvSpPr/>
            <p:nvPr/>
          </p:nvSpPr>
          <p:spPr>
            <a:xfrm>
              <a:off x="4100400" y="1522440"/>
              <a:ext cx="4000680" cy="1500120"/>
            </a:xfrm>
            <a:custGeom>
              <a:avLst/>
              <a:gdLst>
                <a:gd name="textAreaLeft" fmla="*/ 0 w 4000680"/>
                <a:gd name="textAreaRight" fmla="*/ 4001040 w 4000680"/>
                <a:gd name="textAreaTop" fmla="*/ 0 h 1500120"/>
                <a:gd name="textAreaBottom" fmla="*/ 1500480 h 150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0" y="0"/>
                  </a:lnTo>
                  <a:lnTo>
                    <a:pt x="21600" y="10800"/>
                  </a:lnTo>
                  <a:lnTo>
                    <a:pt x="195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4e6bc"/>
                </a:gs>
                <a:gs pos="100000">
                  <a:srgbClr val="f7f8ec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グループ化 8"/>
          <p:cNvGrpSpPr/>
          <p:nvPr/>
        </p:nvGrpSpPr>
        <p:grpSpPr>
          <a:xfrm>
            <a:off x="814320" y="1522440"/>
            <a:ext cx="7286760" cy="4786200"/>
            <a:chOff x="814320" y="1522440"/>
            <a:chExt cx="7286760" cy="4786200"/>
          </a:xfrm>
        </p:grpSpPr>
        <p:sp>
          <p:nvSpPr>
            <p:cNvPr id="111" name="ホームベース 11"/>
            <p:cNvSpPr/>
            <p:nvPr/>
          </p:nvSpPr>
          <p:spPr>
            <a:xfrm>
              <a:off x="814320" y="4808520"/>
              <a:ext cx="4000680" cy="1500120"/>
            </a:xfrm>
            <a:custGeom>
              <a:avLst/>
              <a:gdLst>
                <a:gd name="textAreaLeft" fmla="*/ 0 w 4000680"/>
                <a:gd name="textAreaRight" fmla="*/ 4001040 w 4000680"/>
                <a:gd name="textAreaTop" fmla="*/ 0 h 1500120"/>
                <a:gd name="textAreaBottom" fmla="*/ 1500480 h 150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0" y="0"/>
                  </a:lnTo>
                  <a:lnTo>
                    <a:pt x="21600" y="10800"/>
                  </a:lnTo>
                  <a:lnTo>
                    <a:pt x="195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1e6bc"/>
                </a:gs>
                <a:gs pos="100000">
                  <a:srgbClr val="edf8ec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曲折矢印 12"/>
            <p:cNvGrpSpPr/>
            <p:nvPr/>
          </p:nvGrpSpPr>
          <p:grpSpPr>
            <a:xfrm>
              <a:off x="1329480" y="3565440"/>
              <a:ext cx="1109520" cy="1176480"/>
              <a:chOff x="1329480" y="3565440"/>
              <a:chExt cx="1109520" cy="1176480"/>
            </a:xfrm>
          </p:grpSpPr>
          <p:pic>
            <p:nvPicPr>
              <p:cNvPr id="113" name="曲折矢印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1329480" y="3565440"/>
                <a:ext cx="1109520" cy="117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1385640" y="3593880"/>
                <a:ext cx="1000440" cy="10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曲折矢印 13"/>
            <p:cNvGrpSpPr/>
            <p:nvPr/>
          </p:nvGrpSpPr>
          <p:grpSpPr>
            <a:xfrm>
              <a:off x="2975400" y="1919520"/>
              <a:ext cx="1109520" cy="1176480"/>
              <a:chOff x="2975400" y="1919520"/>
              <a:chExt cx="1109520" cy="1176480"/>
            </a:xfrm>
          </p:grpSpPr>
          <p:pic>
            <p:nvPicPr>
              <p:cNvPr id="116" name="曲折矢印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975400" y="1919520"/>
                <a:ext cx="1109520" cy="117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3028680" y="1950840"/>
                <a:ext cx="1000440" cy="10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ホームベース 14"/>
            <p:cNvSpPr/>
            <p:nvPr/>
          </p:nvSpPr>
          <p:spPr>
            <a:xfrm>
              <a:off x="2457360" y="3165480"/>
              <a:ext cx="4000680" cy="1500120"/>
            </a:xfrm>
            <a:custGeom>
              <a:avLst/>
              <a:gdLst>
                <a:gd name="textAreaLeft" fmla="*/ 0 w 4000680"/>
                <a:gd name="textAreaRight" fmla="*/ 4001040 w 4000680"/>
                <a:gd name="textAreaTop" fmla="*/ 0 h 1500120"/>
                <a:gd name="textAreaBottom" fmla="*/ 1500480 h 150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0" y="0"/>
                  </a:lnTo>
                  <a:lnTo>
                    <a:pt x="21600" y="10800"/>
                  </a:lnTo>
                  <a:lnTo>
                    <a:pt x="195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1e6bc"/>
                </a:gs>
                <a:gs pos="100000">
                  <a:srgbClr val="edf8ec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ホームベース 17"/>
            <p:cNvSpPr/>
            <p:nvPr/>
          </p:nvSpPr>
          <p:spPr>
            <a:xfrm>
              <a:off x="4100400" y="1522440"/>
              <a:ext cx="4000680" cy="1500120"/>
            </a:xfrm>
            <a:custGeom>
              <a:avLst/>
              <a:gdLst>
                <a:gd name="textAreaLeft" fmla="*/ 0 w 4000680"/>
                <a:gd name="textAreaRight" fmla="*/ 4001040 w 4000680"/>
                <a:gd name="textAreaTop" fmla="*/ 0 h 1500120"/>
                <a:gd name="textAreaBottom" fmla="*/ 1500480 h 150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0" y="0"/>
                  </a:lnTo>
                  <a:lnTo>
                    <a:pt x="21600" y="10800"/>
                  </a:lnTo>
                  <a:lnTo>
                    <a:pt x="195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1e6bc"/>
                </a:gs>
                <a:gs pos="100000">
                  <a:srgbClr val="edf8ec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グループ化 8"/>
          <p:cNvGrpSpPr/>
          <p:nvPr/>
        </p:nvGrpSpPr>
        <p:grpSpPr>
          <a:xfrm>
            <a:off x="826920" y="1522440"/>
            <a:ext cx="7286760" cy="4786200"/>
            <a:chOff x="826920" y="1522440"/>
            <a:chExt cx="7286760" cy="4786200"/>
          </a:xfrm>
        </p:grpSpPr>
        <p:sp>
          <p:nvSpPr>
            <p:cNvPr id="121" name="ホームベース 11"/>
            <p:cNvSpPr/>
            <p:nvPr/>
          </p:nvSpPr>
          <p:spPr>
            <a:xfrm>
              <a:off x="826920" y="4808520"/>
              <a:ext cx="4000680" cy="1500120"/>
            </a:xfrm>
            <a:custGeom>
              <a:avLst/>
              <a:gdLst>
                <a:gd name="textAreaLeft" fmla="*/ 0 w 4000680"/>
                <a:gd name="textAreaRight" fmla="*/ 4001040 w 4000680"/>
                <a:gd name="textAreaTop" fmla="*/ 0 h 1500120"/>
                <a:gd name="textAreaBottom" fmla="*/ 1500480 h 150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0" y="0"/>
                  </a:lnTo>
                  <a:lnTo>
                    <a:pt x="21600" y="10800"/>
                  </a:lnTo>
                  <a:lnTo>
                    <a:pt x="195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cd0e6"/>
                </a:gs>
                <a:gs pos="100000">
                  <a:srgbClr val="ecf2f8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曲折矢印 12"/>
            <p:cNvGrpSpPr/>
            <p:nvPr/>
          </p:nvGrpSpPr>
          <p:grpSpPr>
            <a:xfrm>
              <a:off x="1346400" y="3565440"/>
              <a:ext cx="1109520" cy="1176480"/>
              <a:chOff x="1346400" y="3565440"/>
              <a:chExt cx="1109520" cy="1176480"/>
            </a:xfrm>
          </p:grpSpPr>
          <p:pic>
            <p:nvPicPr>
              <p:cNvPr id="123" name="曲折矢印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1346400" y="3565440"/>
                <a:ext cx="1109520" cy="117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1398240" y="3593880"/>
                <a:ext cx="1000440" cy="10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曲折矢印 13"/>
            <p:cNvGrpSpPr/>
            <p:nvPr/>
          </p:nvGrpSpPr>
          <p:grpSpPr>
            <a:xfrm>
              <a:off x="2986200" y="1919520"/>
              <a:ext cx="1109520" cy="1176480"/>
              <a:chOff x="2986200" y="1919520"/>
              <a:chExt cx="1109520" cy="1176480"/>
            </a:xfrm>
          </p:grpSpPr>
          <p:pic>
            <p:nvPicPr>
              <p:cNvPr id="126" name="曲折矢印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986200" y="1919520"/>
                <a:ext cx="1109520" cy="117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3041280" y="1950840"/>
                <a:ext cx="1000440" cy="10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ホームベース 14"/>
            <p:cNvSpPr/>
            <p:nvPr/>
          </p:nvSpPr>
          <p:spPr>
            <a:xfrm>
              <a:off x="2469960" y="3165480"/>
              <a:ext cx="4000680" cy="1500120"/>
            </a:xfrm>
            <a:custGeom>
              <a:avLst/>
              <a:gdLst>
                <a:gd name="textAreaLeft" fmla="*/ 0 w 4000680"/>
                <a:gd name="textAreaRight" fmla="*/ 4001040 w 4000680"/>
                <a:gd name="textAreaTop" fmla="*/ 0 h 1500120"/>
                <a:gd name="textAreaBottom" fmla="*/ 1500480 h 150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0" y="0"/>
                  </a:lnTo>
                  <a:lnTo>
                    <a:pt x="21600" y="10800"/>
                  </a:lnTo>
                  <a:lnTo>
                    <a:pt x="195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cd0e6"/>
                </a:gs>
                <a:gs pos="100000">
                  <a:srgbClr val="ecf2f8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ホームベース 17"/>
            <p:cNvSpPr/>
            <p:nvPr/>
          </p:nvSpPr>
          <p:spPr>
            <a:xfrm>
              <a:off x="4113000" y="1522440"/>
              <a:ext cx="4000680" cy="1500120"/>
            </a:xfrm>
            <a:custGeom>
              <a:avLst/>
              <a:gdLst>
                <a:gd name="textAreaLeft" fmla="*/ 0 w 4000680"/>
                <a:gd name="textAreaRight" fmla="*/ 4001040 w 4000680"/>
                <a:gd name="textAreaTop" fmla="*/ 0 h 1500120"/>
                <a:gd name="textAreaBottom" fmla="*/ 1500480 h 150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0" y="0"/>
                  </a:lnTo>
                  <a:lnTo>
                    <a:pt x="21600" y="10800"/>
                  </a:lnTo>
                  <a:lnTo>
                    <a:pt x="195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cd0e6"/>
                </a:gs>
                <a:gs pos="100000">
                  <a:srgbClr val="ecf2f8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グループ化 8"/>
          <p:cNvGrpSpPr/>
          <p:nvPr/>
        </p:nvGrpSpPr>
        <p:grpSpPr>
          <a:xfrm>
            <a:off x="826920" y="1522440"/>
            <a:ext cx="7286760" cy="4786200"/>
            <a:chOff x="826920" y="1522440"/>
            <a:chExt cx="7286760" cy="4786200"/>
          </a:xfrm>
        </p:grpSpPr>
        <p:sp>
          <p:nvSpPr>
            <p:cNvPr id="131" name="ホームベース 11"/>
            <p:cNvSpPr/>
            <p:nvPr/>
          </p:nvSpPr>
          <p:spPr>
            <a:xfrm>
              <a:off x="826920" y="4808520"/>
              <a:ext cx="4000680" cy="1500120"/>
            </a:xfrm>
            <a:custGeom>
              <a:avLst/>
              <a:gdLst>
                <a:gd name="textAreaLeft" fmla="*/ 0 w 4000680"/>
                <a:gd name="textAreaRight" fmla="*/ 4001040 w 4000680"/>
                <a:gd name="textAreaTop" fmla="*/ 0 h 1500120"/>
                <a:gd name="textAreaBottom" fmla="*/ 1500480 h 150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0" y="0"/>
                  </a:lnTo>
                  <a:lnTo>
                    <a:pt x="21600" y="10800"/>
                  </a:lnTo>
                  <a:lnTo>
                    <a:pt x="195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abce6"/>
                </a:gs>
                <a:gs pos="100000">
                  <a:srgbClr val="f5ecf8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曲折矢印 12"/>
            <p:cNvGrpSpPr/>
            <p:nvPr/>
          </p:nvGrpSpPr>
          <p:grpSpPr>
            <a:xfrm>
              <a:off x="1346400" y="3565440"/>
              <a:ext cx="1109520" cy="1176480"/>
              <a:chOff x="1346400" y="3565440"/>
              <a:chExt cx="1109520" cy="1176480"/>
            </a:xfrm>
          </p:grpSpPr>
          <p:pic>
            <p:nvPicPr>
              <p:cNvPr id="133" name="曲折矢印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1346400" y="3565440"/>
                <a:ext cx="1109520" cy="117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1398240" y="3593880"/>
                <a:ext cx="1000440" cy="10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曲折矢印 13"/>
            <p:cNvGrpSpPr/>
            <p:nvPr/>
          </p:nvGrpSpPr>
          <p:grpSpPr>
            <a:xfrm>
              <a:off x="2986200" y="1919520"/>
              <a:ext cx="1109520" cy="1176480"/>
              <a:chOff x="2986200" y="1919520"/>
              <a:chExt cx="1109520" cy="1176480"/>
            </a:xfrm>
          </p:grpSpPr>
          <p:pic>
            <p:nvPicPr>
              <p:cNvPr id="136" name="曲折矢印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986200" y="1919520"/>
                <a:ext cx="1109520" cy="117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3041280" y="1950840"/>
                <a:ext cx="1000440" cy="10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ホームベース 14"/>
            <p:cNvSpPr/>
            <p:nvPr/>
          </p:nvSpPr>
          <p:spPr>
            <a:xfrm>
              <a:off x="2469960" y="3165480"/>
              <a:ext cx="4000680" cy="1500120"/>
            </a:xfrm>
            <a:custGeom>
              <a:avLst/>
              <a:gdLst>
                <a:gd name="textAreaLeft" fmla="*/ 0 w 4000680"/>
                <a:gd name="textAreaRight" fmla="*/ 4001040 w 4000680"/>
                <a:gd name="textAreaTop" fmla="*/ 0 h 1500120"/>
                <a:gd name="textAreaBottom" fmla="*/ 1500480 h 150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0" y="0"/>
                  </a:lnTo>
                  <a:lnTo>
                    <a:pt x="21600" y="10800"/>
                  </a:lnTo>
                  <a:lnTo>
                    <a:pt x="195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abce6"/>
                </a:gs>
                <a:gs pos="100000">
                  <a:srgbClr val="f5ecf8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ホームベース 17"/>
            <p:cNvSpPr/>
            <p:nvPr/>
          </p:nvSpPr>
          <p:spPr>
            <a:xfrm>
              <a:off x="4113000" y="1522440"/>
              <a:ext cx="4000680" cy="1500120"/>
            </a:xfrm>
            <a:custGeom>
              <a:avLst/>
              <a:gdLst>
                <a:gd name="textAreaLeft" fmla="*/ 0 w 4000680"/>
                <a:gd name="textAreaRight" fmla="*/ 4001040 w 4000680"/>
                <a:gd name="textAreaTop" fmla="*/ 0 h 1500120"/>
                <a:gd name="textAreaBottom" fmla="*/ 1500480 h 150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0" y="0"/>
                  </a:lnTo>
                  <a:lnTo>
                    <a:pt x="21600" y="10800"/>
                  </a:lnTo>
                  <a:lnTo>
                    <a:pt x="195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abce6"/>
                </a:gs>
                <a:gs pos="100000">
                  <a:srgbClr val="f5ecf8"/>
                </a:gs>
              </a:gsLst>
              <a:lin ang="16200000"/>
            </a:gradFill>
            <a:ln w="9360">
              <a:solidFill>
                <a:srgbClr val="96969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ああ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グループ化 11"/>
          <p:cNvGrpSpPr/>
          <p:nvPr/>
        </p:nvGrpSpPr>
        <p:grpSpPr>
          <a:xfrm>
            <a:off x="71280" y="820440"/>
            <a:ext cx="8215560" cy="5836680"/>
            <a:chOff x="71280" y="820440"/>
            <a:chExt cx="8215560" cy="5836680"/>
          </a:xfrm>
        </p:grpSpPr>
        <p:sp>
          <p:nvSpPr>
            <p:cNvPr id="141" name="右矢印 12"/>
            <p:cNvSpPr/>
            <p:nvPr/>
          </p:nvSpPr>
          <p:spPr>
            <a:xfrm rot="17863200">
              <a:off x="-400320" y="2631240"/>
              <a:ext cx="5429520" cy="2214720"/>
            </a:xfrm>
            <a:prstGeom prst="rightArrow">
              <a:avLst>
                <a:gd name="adj1" fmla="val 50000"/>
                <a:gd name="adj2" fmla="val 49996"/>
              </a:avLst>
            </a:prstGeom>
            <a:gradFill rotWithShape="0">
              <a:gsLst>
                <a:gs pos="0">
                  <a:srgbClr val="ffc7c7"/>
                </a:gs>
                <a:gs pos="100000">
                  <a:srgbClr val="ffefef"/>
                </a:gs>
              </a:gsLst>
              <a:lin ang="19938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グループ化 13"/>
            <p:cNvGrpSpPr/>
            <p:nvPr/>
          </p:nvGrpSpPr>
          <p:grpSpPr>
            <a:xfrm>
              <a:off x="1714320" y="1534680"/>
              <a:ext cx="6572520" cy="1071360"/>
              <a:chOff x="1714320" y="1534680"/>
              <a:chExt cx="6572520" cy="1071360"/>
            </a:xfrm>
          </p:grpSpPr>
          <p:sp>
            <p:nvSpPr>
              <p:cNvPr id="143" name="角丸四角形 26"/>
              <p:cNvSpPr/>
              <p:nvPr/>
            </p:nvSpPr>
            <p:spPr>
              <a:xfrm>
                <a:off x="1714320" y="1534680"/>
                <a:ext cx="2071800" cy="1071360"/>
              </a:xfrm>
              <a:prstGeom prst="roundRect">
                <a:avLst>
                  <a:gd name="adj" fmla="val 16667"/>
                </a:avLst>
              </a:prstGeom>
              <a:solidFill>
                <a:srgbClr val="86565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ffffff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角丸四角形 27"/>
              <p:cNvSpPr/>
              <p:nvPr/>
            </p:nvSpPr>
            <p:spPr>
              <a:xfrm>
                <a:off x="4357440" y="1534680"/>
                <a:ext cx="3929400" cy="1071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bcbc"/>
                  </a:gs>
                  <a:gs pos="100000">
                    <a:srgbClr val="f8ecec"/>
                  </a:gs>
                </a:gsLst>
                <a:lin ang="16200000"/>
              </a:gradFill>
              <a:ln w="9360">
                <a:solidFill>
                  <a:srgbClr val="969696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直線コネクタ 28"/>
              <p:cNvSpPr/>
              <p:nvPr/>
            </p:nvSpPr>
            <p:spPr>
              <a:xfrm>
                <a:off x="3786120" y="2070360"/>
                <a:ext cx="571320" cy="0"/>
              </a:xfrm>
              <a:prstGeom prst="line">
                <a:avLst/>
              </a:prstGeom>
              <a:ln w="9360">
                <a:solidFill>
                  <a:srgbClr val="553737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グループ化 14"/>
            <p:cNvGrpSpPr/>
            <p:nvPr/>
          </p:nvGrpSpPr>
          <p:grpSpPr>
            <a:xfrm>
              <a:off x="1428480" y="2749320"/>
              <a:ext cx="6858360" cy="1071360"/>
              <a:chOff x="1428480" y="2749320"/>
              <a:chExt cx="6858360" cy="1071360"/>
            </a:xfrm>
          </p:grpSpPr>
          <p:sp>
            <p:nvSpPr>
              <p:cNvPr id="147" name="角丸四角形 23"/>
              <p:cNvSpPr/>
              <p:nvPr/>
            </p:nvSpPr>
            <p:spPr>
              <a:xfrm>
                <a:off x="1428480" y="2749320"/>
                <a:ext cx="2071800" cy="1071360"/>
              </a:xfrm>
              <a:prstGeom prst="roundRect">
                <a:avLst>
                  <a:gd name="adj" fmla="val 16667"/>
                </a:avLst>
              </a:prstGeom>
              <a:solidFill>
                <a:srgbClr val="86565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ffffff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角丸四角形 24"/>
              <p:cNvSpPr/>
              <p:nvPr/>
            </p:nvSpPr>
            <p:spPr>
              <a:xfrm>
                <a:off x="4357440" y="2749320"/>
                <a:ext cx="3929400" cy="1071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bcbc"/>
                  </a:gs>
                  <a:gs pos="100000">
                    <a:srgbClr val="f8ecec"/>
                  </a:gs>
                </a:gsLst>
                <a:lin ang="16200000"/>
              </a:gradFill>
              <a:ln w="9360">
                <a:solidFill>
                  <a:srgbClr val="969696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直線コネクタ 25"/>
              <p:cNvSpPr/>
              <p:nvPr/>
            </p:nvSpPr>
            <p:spPr>
              <a:xfrm>
                <a:off x="3500280" y="3285000"/>
                <a:ext cx="857160" cy="0"/>
              </a:xfrm>
              <a:prstGeom prst="line">
                <a:avLst/>
              </a:prstGeom>
              <a:ln w="9360">
                <a:solidFill>
                  <a:srgbClr val="553737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グループ化 15"/>
            <p:cNvGrpSpPr/>
            <p:nvPr/>
          </p:nvGrpSpPr>
          <p:grpSpPr>
            <a:xfrm>
              <a:off x="1142640" y="3963960"/>
              <a:ext cx="7144200" cy="1071360"/>
              <a:chOff x="1142640" y="3963960"/>
              <a:chExt cx="7144200" cy="1071360"/>
            </a:xfrm>
          </p:grpSpPr>
          <p:sp>
            <p:nvSpPr>
              <p:cNvPr id="151" name="角丸四角形 20"/>
              <p:cNvSpPr/>
              <p:nvPr/>
            </p:nvSpPr>
            <p:spPr>
              <a:xfrm>
                <a:off x="1142640" y="3963960"/>
                <a:ext cx="2071800" cy="1071360"/>
              </a:xfrm>
              <a:prstGeom prst="roundRect">
                <a:avLst>
                  <a:gd name="adj" fmla="val 16667"/>
                </a:avLst>
              </a:prstGeom>
              <a:solidFill>
                <a:srgbClr val="86565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ffffff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角丸四角形 21"/>
              <p:cNvSpPr/>
              <p:nvPr/>
            </p:nvSpPr>
            <p:spPr>
              <a:xfrm>
                <a:off x="4357440" y="3963960"/>
                <a:ext cx="3929400" cy="1071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bcbc"/>
                  </a:gs>
                  <a:gs pos="100000">
                    <a:srgbClr val="f8ecec"/>
                  </a:gs>
                </a:gsLst>
                <a:lin ang="16200000"/>
              </a:gradFill>
              <a:ln w="9360">
                <a:solidFill>
                  <a:srgbClr val="969696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直線コネクタ 22"/>
              <p:cNvSpPr/>
              <p:nvPr/>
            </p:nvSpPr>
            <p:spPr>
              <a:xfrm>
                <a:off x="3214440" y="4499640"/>
                <a:ext cx="1143000" cy="0"/>
              </a:xfrm>
              <a:prstGeom prst="line">
                <a:avLst/>
              </a:prstGeom>
              <a:ln w="9360">
                <a:solidFill>
                  <a:srgbClr val="553737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グループ化 16"/>
            <p:cNvGrpSpPr/>
            <p:nvPr/>
          </p:nvGrpSpPr>
          <p:grpSpPr>
            <a:xfrm>
              <a:off x="857160" y="5178240"/>
              <a:ext cx="7429680" cy="1071360"/>
              <a:chOff x="857160" y="5178240"/>
              <a:chExt cx="7429680" cy="1071360"/>
            </a:xfrm>
          </p:grpSpPr>
          <p:sp>
            <p:nvSpPr>
              <p:cNvPr id="155" name="角丸四角形 17"/>
              <p:cNvSpPr/>
              <p:nvPr/>
            </p:nvSpPr>
            <p:spPr>
              <a:xfrm>
                <a:off x="857160" y="5178240"/>
                <a:ext cx="2071800" cy="1071360"/>
              </a:xfrm>
              <a:prstGeom prst="roundRect">
                <a:avLst>
                  <a:gd name="adj" fmla="val 16667"/>
                </a:avLst>
              </a:prstGeom>
              <a:solidFill>
                <a:srgbClr val="86565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ffffff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角丸四角形 18"/>
              <p:cNvSpPr/>
              <p:nvPr/>
            </p:nvSpPr>
            <p:spPr>
              <a:xfrm>
                <a:off x="4357800" y="5178240"/>
                <a:ext cx="3929040" cy="1071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bcbc"/>
                  </a:gs>
                  <a:gs pos="100000">
                    <a:srgbClr val="f8ecec"/>
                  </a:gs>
                </a:gsLst>
                <a:lin ang="16200000"/>
              </a:gradFill>
              <a:ln w="9360">
                <a:solidFill>
                  <a:srgbClr val="969696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直線コネクタ 19"/>
              <p:cNvSpPr/>
              <p:nvPr/>
            </p:nvSpPr>
            <p:spPr>
              <a:xfrm>
                <a:off x="2928960" y="5713920"/>
                <a:ext cx="1428840" cy="0"/>
              </a:xfrm>
              <a:prstGeom prst="line">
                <a:avLst/>
              </a:prstGeom>
              <a:ln w="9360">
                <a:solidFill>
                  <a:srgbClr val="553737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グループ化 11"/>
          <p:cNvGrpSpPr/>
          <p:nvPr/>
        </p:nvGrpSpPr>
        <p:grpSpPr>
          <a:xfrm>
            <a:off x="71280" y="820440"/>
            <a:ext cx="8215560" cy="5836680"/>
            <a:chOff x="71280" y="820440"/>
            <a:chExt cx="8215560" cy="5836680"/>
          </a:xfrm>
        </p:grpSpPr>
        <p:sp>
          <p:nvSpPr>
            <p:cNvPr id="159" name="右矢印 12"/>
            <p:cNvSpPr/>
            <p:nvPr/>
          </p:nvSpPr>
          <p:spPr>
            <a:xfrm rot="17863200">
              <a:off x="-400320" y="2631240"/>
              <a:ext cx="5429520" cy="2214720"/>
            </a:xfrm>
            <a:prstGeom prst="rightArrow">
              <a:avLst>
                <a:gd name="adj1" fmla="val 50000"/>
                <a:gd name="adj2" fmla="val 49996"/>
              </a:avLst>
            </a:prstGeom>
            <a:gradFill rotWithShape="0">
              <a:gsLst>
                <a:gs pos="0">
                  <a:srgbClr val="fbffa5"/>
                </a:gs>
                <a:gs pos="100000">
                  <a:srgbClr val="feffdc"/>
                </a:gs>
              </a:gsLst>
              <a:lin ang="19938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グループ化 13"/>
            <p:cNvGrpSpPr/>
            <p:nvPr/>
          </p:nvGrpSpPr>
          <p:grpSpPr>
            <a:xfrm>
              <a:off x="1714320" y="1534680"/>
              <a:ext cx="6572520" cy="1071360"/>
              <a:chOff x="1714320" y="1534680"/>
              <a:chExt cx="6572520" cy="1071360"/>
            </a:xfrm>
          </p:grpSpPr>
          <p:sp>
            <p:nvSpPr>
              <p:cNvPr id="161" name="角丸四角形 26"/>
              <p:cNvSpPr/>
              <p:nvPr/>
            </p:nvSpPr>
            <p:spPr>
              <a:xfrm>
                <a:off x="1714320" y="1534680"/>
                <a:ext cx="2071800" cy="1071360"/>
              </a:xfrm>
              <a:prstGeom prst="roundRect">
                <a:avLst>
                  <a:gd name="adj" fmla="val 16667"/>
                </a:avLst>
              </a:prstGeom>
              <a:solidFill>
                <a:srgbClr val="84865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ffffff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角丸四角形 27"/>
              <p:cNvSpPr/>
              <p:nvPr/>
            </p:nvSpPr>
            <p:spPr>
              <a:xfrm>
                <a:off x="4357440" y="1534680"/>
                <a:ext cx="3929400" cy="1071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4e6bc"/>
                  </a:gs>
                  <a:gs pos="100000">
                    <a:srgbClr val="f7f8ec"/>
                  </a:gs>
                </a:gsLst>
                <a:lin ang="16200000"/>
              </a:gradFill>
              <a:ln w="9360">
                <a:solidFill>
                  <a:srgbClr val="969696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直線コネクタ 28"/>
              <p:cNvSpPr/>
              <p:nvPr/>
            </p:nvSpPr>
            <p:spPr>
              <a:xfrm>
                <a:off x="3786120" y="2070360"/>
                <a:ext cx="571320" cy="0"/>
              </a:xfrm>
              <a:prstGeom prst="line">
                <a:avLst/>
              </a:prstGeom>
              <a:ln w="9360">
                <a:solidFill>
                  <a:srgbClr val="545537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グループ化 14"/>
            <p:cNvGrpSpPr/>
            <p:nvPr/>
          </p:nvGrpSpPr>
          <p:grpSpPr>
            <a:xfrm>
              <a:off x="1428480" y="2749320"/>
              <a:ext cx="6858360" cy="1071360"/>
              <a:chOff x="1428480" y="2749320"/>
              <a:chExt cx="6858360" cy="1071360"/>
            </a:xfrm>
          </p:grpSpPr>
          <p:sp>
            <p:nvSpPr>
              <p:cNvPr id="165" name="角丸四角形 23"/>
              <p:cNvSpPr/>
              <p:nvPr/>
            </p:nvSpPr>
            <p:spPr>
              <a:xfrm>
                <a:off x="1428480" y="2749320"/>
                <a:ext cx="2071800" cy="1071360"/>
              </a:xfrm>
              <a:prstGeom prst="roundRect">
                <a:avLst>
                  <a:gd name="adj" fmla="val 16667"/>
                </a:avLst>
              </a:prstGeom>
              <a:solidFill>
                <a:srgbClr val="84865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ffffff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角丸四角形 24"/>
              <p:cNvSpPr/>
              <p:nvPr/>
            </p:nvSpPr>
            <p:spPr>
              <a:xfrm>
                <a:off x="4357440" y="2749320"/>
                <a:ext cx="3929400" cy="1071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4e6bc"/>
                  </a:gs>
                  <a:gs pos="100000">
                    <a:srgbClr val="f7f8ec"/>
                  </a:gs>
                </a:gsLst>
                <a:lin ang="16200000"/>
              </a:gradFill>
              <a:ln w="9360">
                <a:solidFill>
                  <a:srgbClr val="969696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直線コネクタ 25"/>
              <p:cNvSpPr/>
              <p:nvPr/>
            </p:nvSpPr>
            <p:spPr>
              <a:xfrm>
                <a:off x="3500280" y="3285000"/>
                <a:ext cx="857160" cy="0"/>
              </a:xfrm>
              <a:prstGeom prst="line">
                <a:avLst/>
              </a:prstGeom>
              <a:ln w="9360">
                <a:solidFill>
                  <a:srgbClr val="545537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グループ化 15"/>
            <p:cNvGrpSpPr/>
            <p:nvPr/>
          </p:nvGrpSpPr>
          <p:grpSpPr>
            <a:xfrm>
              <a:off x="1142640" y="3963960"/>
              <a:ext cx="7144200" cy="1071360"/>
              <a:chOff x="1142640" y="3963960"/>
              <a:chExt cx="7144200" cy="1071360"/>
            </a:xfrm>
          </p:grpSpPr>
          <p:sp>
            <p:nvSpPr>
              <p:cNvPr id="169" name="角丸四角形 20"/>
              <p:cNvSpPr/>
              <p:nvPr/>
            </p:nvSpPr>
            <p:spPr>
              <a:xfrm>
                <a:off x="1142640" y="3963960"/>
                <a:ext cx="2071800" cy="1071360"/>
              </a:xfrm>
              <a:prstGeom prst="roundRect">
                <a:avLst>
                  <a:gd name="adj" fmla="val 16667"/>
                </a:avLst>
              </a:prstGeom>
              <a:solidFill>
                <a:srgbClr val="84865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ffffff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角丸四角形 21"/>
              <p:cNvSpPr/>
              <p:nvPr/>
            </p:nvSpPr>
            <p:spPr>
              <a:xfrm>
                <a:off x="4357440" y="3963960"/>
                <a:ext cx="3929400" cy="1071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4e6bc"/>
                  </a:gs>
                  <a:gs pos="100000">
                    <a:srgbClr val="f7f8ec"/>
                  </a:gs>
                </a:gsLst>
                <a:lin ang="16200000"/>
              </a:gradFill>
              <a:ln w="9360">
                <a:solidFill>
                  <a:srgbClr val="969696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直線コネクタ 22"/>
              <p:cNvSpPr/>
              <p:nvPr/>
            </p:nvSpPr>
            <p:spPr>
              <a:xfrm>
                <a:off x="3214440" y="4499640"/>
                <a:ext cx="1143000" cy="0"/>
              </a:xfrm>
              <a:prstGeom prst="line">
                <a:avLst/>
              </a:prstGeom>
              <a:ln w="9360">
                <a:solidFill>
                  <a:srgbClr val="545537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グループ化 16"/>
            <p:cNvGrpSpPr/>
            <p:nvPr/>
          </p:nvGrpSpPr>
          <p:grpSpPr>
            <a:xfrm>
              <a:off x="857160" y="5178240"/>
              <a:ext cx="7429680" cy="1071360"/>
              <a:chOff x="857160" y="5178240"/>
              <a:chExt cx="7429680" cy="1071360"/>
            </a:xfrm>
          </p:grpSpPr>
          <p:sp>
            <p:nvSpPr>
              <p:cNvPr id="173" name="角丸四角形 17"/>
              <p:cNvSpPr/>
              <p:nvPr/>
            </p:nvSpPr>
            <p:spPr>
              <a:xfrm>
                <a:off x="857160" y="5178240"/>
                <a:ext cx="2071800" cy="1071360"/>
              </a:xfrm>
              <a:prstGeom prst="roundRect">
                <a:avLst>
                  <a:gd name="adj" fmla="val 16667"/>
                </a:avLst>
              </a:prstGeom>
              <a:solidFill>
                <a:srgbClr val="84865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ffffff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角丸四角形 18"/>
              <p:cNvSpPr/>
              <p:nvPr/>
            </p:nvSpPr>
            <p:spPr>
              <a:xfrm>
                <a:off x="4357800" y="5178240"/>
                <a:ext cx="3929040" cy="1071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4e6bc"/>
                  </a:gs>
                  <a:gs pos="100000">
                    <a:srgbClr val="f7f8ec"/>
                  </a:gs>
                </a:gsLst>
                <a:lin ang="16200000"/>
              </a:gradFill>
              <a:ln w="9360">
                <a:solidFill>
                  <a:srgbClr val="969696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直線コネクタ 19"/>
              <p:cNvSpPr/>
              <p:nvPr/>
            </p:nvSpPr>
            <p:spPr>
              <a:xfrm>
                <a:off x="2928960" y="5713920"/>
                <a:ext cx="1428840" cy="0"/>
              </a:xfrm>
              <a:prstGeom prst="line">
                <a:avLst/>
              </a:prstGeom>
              <a:ln w="9360">
                <a:solidFill>
                  <a:srgbClr val="545537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グループ化 11"/>
          <p:cNvGrpSpPr/>
          <p:nvPr/>
        </p:nvGrpSpPr>
        <p:grpSpPr>
          <a:xfrm>
            <a:off x="71280" y="820440"/>
            <a:ext cx="8215560" cy="5836680"/>
            <a:chOff x="71280" y="820440"/>
            <a:chExt cx="8215560" cy="5836680"/>
          </a:xfrm>
        </p:grpSpPr>
        <p:sp>
          <p:nvSpPr>
            <p:cNvPr id="177" name="右矢印 12"/>
            <p:cNvSpPr/>
            <p:nvPr/>
          </p:nvSpPr>
          <p:spPr>
            <a:xfrm rot="17863200">
              <a:off x="-400320" y="2631240"/>
              <a:ext cx="5429520" cy="2214720"/>
            </a:xfrm>
            <a:prstGeom prst="rightArrow">
              <a:avLst>
                <a:gd name="adj1" fmla="val 50000"/>
                <a:gd name="adj2" fmla="val 49996"/>
              </a:avLst>
            </a:prstGeom>
            <a:gradFill rotWithShape="0">
              <a:gsLst>
                <a:gs pos="0">
                  <a:srgbClr val="ceffc7"/>
                </a:gs>
                <a:gs pos="100000">
                  <a:srgbClr val="f1ffef"/>
                </a:gs>
              </a:gsLst>
              <a:lin ang="19938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グループ化 13"/>
            <p:cNvGrpSpPr/>
            <p:nvPr/>
          </p:nvGrpSpPr>
          <p:grpSpPr>
            <a:xfrm>
              <a:off x="1714320" y="1534680"/>
              <a:ext cx="6572520" cy="1071360"/>
              <a:chOff x="1714320" y="1534680"/>
              <a:chExt cx="6572520" cy="1071360"/>
            </a:xfrm>
          </p:grpSpPr>
          <p:sp>
            <p:nvSpPr>
              <p:cNvPr id="179" name="角丸四角形 26"/>
              <p:cNvSpPr/>
              <p:nvPr/>
            </p:nvSpPr>
            <p:spPr>
              <a:xfrm>
                <a:off x="1714320" y="1534680"/>
                <a:ext cx="2071800" cy="1071360"/>
              </a:xfrm>
              <a:prstGeom prst="roundRect">
                <a:avLst>
                  <a:gd name="adj" fmla="val 16667"/>
                </a:avLst>
              </a:prstGeom>
              <a:solidFill>
                <a:srgbClr val="5c865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ffffff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角丸四角形 27"/>
              <p:cNvSpPr/>
              <p:nvPr/>
            </p:nvSpPr>
            <p:spPr>
              <a:xfrm>
                <a:off x="4357440" y="1534680"/>
                <a:ext cx="3929400" cy="1071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1e6bc"/>
                  </a:gs>
                  <a:gs pos="100000">
                    <a:srgbClr val="edf8ec"/>
                  </a:gs>
                </a:gsLst>
                <a:lin ang="16200000"/>
              </a:gradFill>
              <a:ln w="9360">
                <a:solidFill>
                  <a:srgbClr val="969696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直線コネクタ 28"/>
              <p:cNvSpPr/>
              <p:nvPr/>
            </p:nvSpPr>
            <p:spPr>
              <a:xfrm>
                <a:off x="3786120" y="2070360"/>
                <a:ext cx="571320" cy="0"/>
              </a:xfrm>
              <a:prstGeom prst="line">
                <a:avLst/>
              </a:prstGeom>
              <a:ln w="9360">
                <a:solidFill>
                  <a:srgbClr val="3b5537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グループ化 14"/>
            <p:cNvGrpSpPr/>
            <p:nvPr/>
          </p:nvGrpSpPr>
          <p:grpSpPr>
            <a:xfrm>
              <a:off x="1428480" y="2749320"/>
              <a:ext cx="6858360" cy="1071360"/>
              <a:chOff x="1428480" y="2749320"/>
              <a:chExt cx="6858360" cy="1071360"/>
            </a:xfrm>
          </p:grpSpPr>
          <p:sp>
            <p:nvSpPr>
              <p:cNvPr id="183" name="角丸四角形 23"/>
              <p:cNvSpPr/>
              <p:nvPr/>
            </p:nvSpPr>
            <p:spPr>
              <a:xfrm>
                <a:off x="1428480" y="2749320"/>
                <a:ext cx="2071800" cy="1071360"/>
              </a:xfrm>
              <a:prstGeom prst="roundRect">
                <a:avLst>
                  <a:gd name="adj" fmla="val 16667"/>
                </a:avLst>
              </a:prstGeom>
              <a:solidFill>
                <a:srgbClr val="5c865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ffffff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角丸四角形 24"/>
              <p:cNvSpPr/>
              <p:nvPr/>
            </p:nvSpPr>
            <p:spPr>
              <a:xfrm>
                <a:off x="4357440" y="2749320"/>
                <a:ext cx="3929400" cy="1071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1e6bc"/>
                  </a:gs>
                  <a:gs pos="100000">
                    <a:srgbClr val="edf8ec"/>
                  </a:gs>
                </a:gsLst>
                <a:lin ang="16200000"/>
              </a:gradFill>
              <a:ln w="9360">
                <a:solidFill>
                  <a:srgbClr val="969696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直線コネクタ 25"/>
              <p:cNvSpPr/>
              <p:nvPr/>
            </p:nvSpPr>
            <p:spPr>
              <a:xfrm>
                <a:off x="3500280" y="3285000"/>
                <a:ext cx="857160" cy="0"/>
              </a:xfrm>
              <a:prstGeom prst="line">
                <a:avLst/>
              </a:prstGeom>
              <a:ln w="9360">
                <a:solidFill>
                  <a:srgbClr val="3b5537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グループ化 15"/>
            <p:cNvGrpSpPr/>
            <p:nvPr/>
          </p:nvGrpSpPr>
          <p:grpSpPr>
            <a:xfrm>
              <a:off x="1142640" y="3963960"/>
              <a:ext cx="7144200" cy="1071360"/>
              <a:chOff x="1142640" y="3963960"/>
              <a:chExt cx="7144200" cy="1071360"/>
            </a:xfrm>
          </p:grpSpPr>
          <p:sp>
            <p:nvSpPr>
              <p:cNvPr id="187" name="角丸四角形 20"/>
              <p:cNvSpPr/>
              <p:nvPr/>
            </p:nvSpPr>
            <p:spPr>
              <a:xfrm>
                <a:off x="1142640" y="3963960"/>
                <a:ext cx="2071800" cy="1071360"/>
              </a:xfrm>
              <a:prstGeom prst="roundRect">
                <a:avLst>
                  <a:gd name="adj" fmla="val 16667"/>
                </a:avLst>
              </a:prstGeom>
              <a:solidFill>
                <a:srgbClr val="5c865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ffffff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角丸四角形 21"/>
              <p:cNvSpPr/>
              <p:nvPr/>
            </p:nvSpPr>
            <p:spPr>
              <a:xfrm>
                <a:off x="4357440" y="3963960"/>
                <a:ext cx="3929400" cy="1071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1e6bc"/>
                  </a:gs>
                  <a:gs pos="100000">
                    <a:srgbClr val="edf8ec"/>
                  </a:gs>
                </a:gsLst>
                <a:lin ang="16200000"/>
              </a:gradFill>
              <a:ln w="9360">
                <a:solidFill>
                  <a:srgbClr val="969696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直線コネクタ 22"/>
              <p:cNvSpPr/>
              <p:nvPr/>
            </p:nvSpPr>
            <p:spPr>
              <a:xfrm>
                <a:off x="3214440" y="4499640"/>
                <a:ext cx="1143000" cy="0"/>
              </a:xfrm>
              <a:prstGeom prst="line">
                <a:avLst/>
              </a:prstGeom>
              <a:ln w="9360">
                <a:solidFill>
                  <a:srgbClr val="3b5537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グループ化 16"/>
            <p:cNvGrpSpPr/>
            <p:nvPr/>
          </p:nvGrpSpPr>
          <p:grpSpPr>
            <a:xfrm>
              <a:off x="857160" y="5178240"/>
              <a:ext cx="7429680" cy="1071360"/>
              <a:chOff x="857160" y="5178240"/>
              <a:chExt cx="7429680" cy="1071360"/>
            </a:xfrm>
          </p:grpSpPr>
          <p:sp>
            <p:nvSpPr>
              <p:cNvPr id="191" name="角丸四角形 17"/>
              <p:cNvSpPr/>
              <p:nvPr/>
            </p:nvSpPr>
            <p:spPr>
              <a:xfrm>
                <a:off x="857160" y="5178240"/>
                <a:ext cx="2071800" cy="1071360"/>
              </a:xfrm>
              <a:prstGeom prst="roundRect">
                <a:avLst>
                  <a:gd name="adj" fmla="val 16667"/>
                </a:avLst>
              </a:prstGeom>
              <a:solidFill>
                <a:srgbClr val="5c865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ffffff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角丸四角形 18"/>
              <p:cNvSpPr/>
              <p:nvPr/>
            </p:nvSpPr>
            <p:spPr>
              <a:xfrm>
                <a:off x="4357800" y="5178240"/>
                <a:ext cx="3929040" cy="1071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1e6bc"/>
                  </a:gs>
                  <a:gs pos="100000">
                    <a:srgbClr val="edf8ec"/>
                  </a:gs>
                </a:gsLst>
                <a:lin ang="16200000"/>
              </a:gradFill>
              <a:ln w="9360">
                <a:solidFill>
                  <a:srgbClr val="969696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直線コネクタ 19"/>
              <p:cNvSpPr/>
              <p:nvPr/>
            </p:nvSpPr>
            <p:spPr>
              <a:xfrm>
                <a:off x="2928960" y="5713920"/>
                <a:ext cx="1428840" cy="0"/>
              </a:xfrm>
              <a:prstGeom prst="line">
                <a:avLst/>
              </a:prstGeom>
              <a:ln w="9360">
                <a:solidFill>
                  <a:srgbClr val="3b5537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グループ化 11"/>
          <p:cNvGrpSpPr/>
          <p:nvPr/>
        </p:nvGrpSpPr>
        <p:grpSpPr>
          <a:xfrm>
            <a:off x="71280" y="820440"/>
            <a:ext cx="8215560" cy="5836680"/>
            <a:chOff x="71280" y="820440"/>
            <a:chExt cx="8215560" cy="5836680"/>
          </a:xfrm>
        </p:grpSpPr>
        <p:sp>
          <p:nvSpPr>
            <p:cNvPr id="195" name="右矢印 12"/>
            <p:cNvSpPr/>
            <p:nvPr/>
          </p:nvSpPr>
          <p:spPr>
            <a:xfrm rot="17863200">
              <a:off x="-400320" y="2631240"/>
              <a:ext cx="5429520" cy="2214720"/>
            </a:xfrm>
            <a:prstGeom prst="rightArrow">
              <a:avLst>
                <a:gd name="adj1" fmla="val 50000"/>
                <a:gd name="adj2" fmla="val 49996"/>
              </a:avLst>
            </a:prstGeom>
            <a:gradFill rotWithShape="0">
              <a:gsLst>
                <a:gs pos="0">
                  <a:srgbClr val="c7e2ff"/>
                </a:gs>
                <a:gs pos="100000">
                  <a:srgbClr val="eff7ff"/>
                </a:gs>
              </a:gsLst>
              <a:lin ang="19938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グループ化 13"/>
            <p:cNvGrpSpPr/>
            <p:nvPr/>
          </p:nvGrpSpPr>
          <p:grpSpPr>
            <a:xfrm>
              <a:off x="1714320" y="1534680"/>
              <a:ext cx="6572520" cy="1071360"/>
              <a:chOff x="1714320" y="1534680"/>
              <a:chExt cx="6572520" cy="1071360"/>
            </a:xfrm>
          </p:grpSpPr>
          <p:sp>
            <p:nvSpPr>
              <p:cNvPr id="197" name="角丸四角形 26"/>
              <p:cNvSpPr/>
              <p:nvPr/>
            </p:nvSpPr>
            <p:spPr>
              <a:xfrm>
                <a:off x="1714320" y="1534680"/>
                <a:ext cx="2071800" cy="1071360"/>
              </a:xfrm>
              <a:prstGeom prst="roundRect">
                <a:avLst>
                  <a:gd name="adj" fmla="val 16667"/>
                </a:avLst>
              </a:prstGeom>
              <a:solidFill>
                <a:srgbClr val="566d8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ffffff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角丸四角形 27"/>
              <p:cNvSpPr/>
              <p:nvPr/>
            </p:nvSpPr>
            <p:spPr>
              <a:xfrm>
                <a:off x="4357440" y="1534680"/>
                <a:ext cx="3929400" cy="1071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cd0e6"/>
                  </a:gs>
                  <a:gs pos="100000">
                    <a:srgbClr val="ecf2f8"/>
                  </a:gs>
                </a:gsLst>
                <a:lin ang="16200000"/>
              </a:gradFill>
              <a:ln w="9360">
                <a:solidFill>
                  <a:srgbClr val="969696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直線コネクタ 28"/>
              <p:cNvSpPr/>
              <p:nvPr/>
            </p:nvSpPr>
            <p:spPr>
              <a:xfrm>
                <a:off x="3786120" y="2070360"/>
                <a:ext cx="571320" cy="0"/>
              </a:xfrm>
              <a:prstGeom prst="line">
                <a:avLst/>
              </a:prstGeom>
              <a:ln w="9360">
                <a:solidFill>
                  <a:srgbClr val="374555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グループ化 14"/>
            <p:cNvGrpSpPr/>
            <p:nvPr/>
          </p:nvGrpSpPr>
          <p:grpSpPr>
            <a:xfrm>
              <a:off x="1428480" y="2749320"/>
              <a:ext cx="6858360" cy="1071360"/>
              <a:chOff x="1428480" y="2749320"/>
              <a:chExt cx="6858360" cy="1071360"/>
            </a:xfrm>
          </p:grpSpPr>
          <p:sp>
            <p:nvSpPr>
              <p:cNvPr id="201" name="角丸四角形 23"/>
              <p:cNvSpPr/>
              <p:nvPr/>
            </p:nvSpPr>
            <p:spPr>
              <a:xfrm>
                <a:off x="1428480" y="2749320"/>
                <a:ext cx="2071800" cy="1071360"/>
              </a:xfrm>
              <a:prstGeom prst="roundRect">
                <a:avLst>
                  <a:gd name="adj" fmla="val 16667"/>
                </a:avLst>
              </a:prstGeom>
              <a:solidFill>
                <a:srgbClr val="566d8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ffffff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角丸四角形 24"/>
              <p:cNvSpPr/>
              <p:nvPr/>
            </p:nvSpPr>
            <p:spPr>
              <a:xfrm>
                <a:off x="4357440" y="2749320"/>
                <a:ext cx="3929400" cy="1071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cd0e6"/>
                  </a:gs>
                  <a:gs pos="100000">
                    <a:srgbClr val="ecf2f8"/>
                  </a:gs>
                </a:gsLst>
                <a:lin ang="16200000"/>
              </a:gradFill>
              <a:ln w="9360">
                <a:solidFill>
                  <a:srgbClr val="969696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直線コネクタ 25"/>
              <p:cNvSpPr/>
              <p:nvPr/>
            </p:nvSpPr>
            <p:spPr>
              <a:xfrm>
                <a:off x="3500280" y="3285000"/>
                <a:ext cx="857160" cy="0"/>
              </a:xfrm>
              <a:prstGeom prst="line">
                <a:avLst/>
              </a:prstGeom>
              <a:ln w="9360">
                <a:solidFill>
                  <a:srgbClr val="374555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グループ化 15"/>
            <p:cNvGrpSpPr/>
            <p:nvPr/>
          </p:nvGrpSpPr>
          <p:grpSpPr>
            <a:xfrm>
              <a:off x="1142640" y="3963960"/>
              <a:ext cx="7144200" cy="1071360"/>
              <a:chOff x="1142640" y="3963960"/>
              <a:chExt cx="7144200" cy="1071360"/>
            </a:xfrm>
          </p:grpSpPr>
          <p:sp>
            <p:nvSpPr>
              <p:cNvPr id="205" name="角丸四角形 20"/>
              <p:cNvSpPr/>
              <p:nvPr/>
            </p:nvSpPr>
            <p:spPr>
              <a:xfrm>
                <a:off x="1142640" y="3963960"/>
                <a:ext cx="2071800" cy="1071360"/>
              </a:xfrm>
              <a:prstGeom prst="roundRect">
                <a:avLst>
                  <a:gd name="adj" fmla="val 16667"/>
                </a:avLst>
              </a:prstGeom>
              <a:solidFill>
                <a:srgbClr val="566d8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ffffff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角丸四角形 21"/>
              <p:cNvSpPr/>
              <p:nvPr/>
            </p:nvSpPr>
            <p:spPr>
              <a:xfrm>
                <a:off x="4357440" y="3963960"/>
                <a:ext cx="3929400" cy="1071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cd0e6"/>
                  </a:gs>
                  <a:gs pos="100000">
                    <a:srgbClr val="ecf2f8"/>
                  </a:gs>
                </a:gsLst>
                <a:lin ang="16200000"/>
              </a:gradFill>
              <a:ln w="9360">
                <a:solidFill>
                  <a:srgbClr val="969696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直線コネクタ 22"/>
              <p:cNvSpPr/>
              <p:nvPr/>
            </p:nvSpPr>
            <p:spPr>
              <a:xfrm>
                <a:off x="3214440" y="4499640"/>
                <a:ext cx="1143000" cy="0"/>
              </a:xfrm>
              <a:prstGeom prst="line">
                <a:avLst/>
              </a:prstGeom>
              <a:ln w="9360">
                <a:solidFill>
                  <a:srgbClr val="374555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グループ化 16"/>
            <p:cNvGrpSpPr/>
            <p:nvPr/>
          </p:nvGrpSpPr>
          <p:grpSpPr>
            <a:xfrm>
              <a:off x="857160" y="5178240"/>
              <a:ext cx="7429680" cy="1071360"/>
              <a:chOff x="857160" y="5178240"/>
              <a:chExt cx="7429680" cy="1071360"/>
            </a:xfrm>
          </p:grpSpPr>
          <p:sp>
            <p:nvSpPr>
              <p:cNvPr id="209" name="角丸四角形 17"/>
              <p:cNvSpPr/>
              <p:nvPr/>
            </p:nvSpPr>
            <p:spPr>
              <a:xfrm>
                <a:off x="857160" y="5178240"/>
                <a:ext cx="2071800" cy="1071360"/>
              </a:xfrm>
              <a:prstGeom prst="roundRect">
                <a:avLst>
                  <a:gd name="adj" fmla="val 16667"/>
                </a:avLst>
              </a:prstGeom>
              <a:solidFill>
                <a:srgbClr val="566d8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ffffff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角丸四角形 18"/>
              <p:cNvSpPr/>
              <p:nvPr/>
            </p:nvSpPr>
            <p:spPr>
              <a:xfrm>
                <a:off x="4357800" y="5178240"/>
                <a:ext cx="3929040" cy="1071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cd0e6"/>
                  </a:gs>
                  <a:gs pos="100000">
                    <a:srgbClr val="ecf2f8"/>
                  </a:gs>
                </a:gsLst>
                <a:lin ang="16200000"/>
              </a:gradFill>
              <a:ln w="9360">
                <a:solidFill>
                  <a:srgbClr val="969696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ああ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直線コネクタ 19"/>
              <p:cNvSpPr/>
              <p:nvPr/>
            </p:nvSpPr>
            <p:spPr>
              <a:xfrm>
                <a:off x="2928960" y="5713920"/>
                <a:ext cx="1428840" cy="0"/>
              </a:xfrm>
              <a:prstGeom prst="line">
                <a:avLst/>
              </a:prstGeom>
              <a:ln w="9360">
                <a:solidFill>
                  <a:srgbClr val="374555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08:55:57Z</dcterms:created>
  <dc:creator/>
  <dc:description/>
  <dc:language>en-US</dc:language>
  <cp:lastModifiedBy/>
  <dcterms:modified xsi:type="dcterms:W3CDTF">2013-10-31T15:12:32Z</dcterms:modified>
  <cp:revision>1</cp:revision>
  <dc:subject/>
  <dc:title/>
</cp:coreProperties>
</file>